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89F-4371-4ECE-9E13-7D831D89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8460-EB71-4038-82A8-04835494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B8F-CB58-49D8-8400-983D19E2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769D-08A1-4371-8416-4F4DCA85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7263-2F2A-4262-BE39-C3EF1B0C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BC587-6992-4D75-94E2-024B275B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F3F7-5D38-4800-80F2-B1D055CB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BF35-066E-470B-86C6-635324E5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D2D0-F1B8-48E6-830E-A85DBB2F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CE93-3264-49A8-9E83-4DD946E5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E6B1-26CC-4804-8CB3-89402F75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C93A-6B2A-44A0-A623-462F1E55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D040-EEE0-4B11-8FD4-BEF6EB0F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01BE-7CF2-42C6-9DD4-249EC4F9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7126-EFC7-47C5-9D75-5EE59AB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B231-F66D-4DC7-8D0E-3BB99250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87D3-307D-435A-94E2-1F078728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F3A4-CD7C-4A8A-B4A4-92F43C3F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BBE-3147-4048-B635-D5FF8D40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624D-F741-4EB2-918C-72EBDAF4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495-E952-49B2-AEDE-7A97086F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7C4-1BA6-4F90-9A8C-7FF5D431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C04A-F23D-4083-888C-A30AECB7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339-EC3D-47A4-9891-3278982C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5F6-32B4-401E-AF57-AF2EBF078C6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A4F4-BF65-407E-9FD6-046D5945123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Making Conservation Wor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878120" y="3989160"/>
            <a:ext cx="57038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lly Colli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ssociate Chief, USDA Forest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bal responsibil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s our consumption globally sustainable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llegal logging—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p to 75% in some count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forestation—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980-95: 440 million acres+ worldw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4114800"/>
          <a:ext cx="336708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4800"/>
                    <a:ext cx="33670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0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816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191120" y="4495680"/>
          <a:ext cx="3138480" cy="204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495680"/>
                    <a:ext cx="313848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ontimber valu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ean water and 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bitat for wildlif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enic beauty/sense of naturaln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tdoor recre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tial new opportunities are on private l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est ownership in the Sout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1913040"/>
          <a:ext cx="7467840" cy="390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13040"/>
                    <a:ext cx="746784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sing demand for recre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219320" y="2306520"/>
          <a:ext cx="7016760" cy="348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6520"/>
                    <a:ext cx="7016760" cy="34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erging patter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44953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est conversion to urban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vate forest land closed to publi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rinking supply, rising dem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9152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ter services from fore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14400" y="4724280"/>
            <a:ext cx="784872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lwaukee, 1993: 400,000+ sick, 100+ dea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DC health advis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990720" y="1752480"/>
          <a:ext cx="3504960" cy="21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3504960" cy="21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029200" y="1752480"/>
          <a:ext cx="3468600" cy="21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752480"/>
                    <a:ext cx="346860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w way of valuing fores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atural capital paying dividend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 are liquidating our natural capit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ke environmental services p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people to work for conservation, conservation must work for 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king environmental services pay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York City watersh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ying for watershed improve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ncock Natural Resource Gro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vidends from carbon tra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tdoor recre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e-based: International Pap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tential for in-kind serv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king conservation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incentives are ke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ditional approaches also need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lating noncommercial forest values into incom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ean wa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bon sequest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odivers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tdoor recreation, etc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ou can help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ur Thre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re and fuel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ss of open sp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asi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manag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utdo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cre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2133360" cy="1933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477120" y="4114800"/>
          <a:ext cx="218124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114800"/>
                    <a:ext cx="2181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990720" y="2209680"/>
          <a:ext cx="2743200" cy="173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209680"/>
                    <a:ext cx="274320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6"/>
          <a:stretch/>
        </p:blipFill>
        <p:spPr>
          <a:xfrm>
            <a:off x="5105520" y="2286000"/>
            <a:ext cx="3581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ss of open spa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4114800"/>
            <a:ext cx="807732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ss of soil and water prot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ss of wildlife habit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ss of carbon sequest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ss of ameni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utdoor recreation, scenic beauty,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3880" y="1560600"/>
            <a:ext cx="601992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est land ownershi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752480"/>
          <a:ext cx="7848720" cy="42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84872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orest loss since 1600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607: 1,044 million ac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07: 759 million ac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53: 756.2 million ac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97: 747 million ac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us ≈200,000 acres per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50 (projected): 723.8 million ac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nus ≈440,000 acres per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tional forest % of consump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5120" y="1600200"/>
          <a:ext cx="821376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600200"/>
                    <a:ext cx="821376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eloped 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982: 72.8 million ac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02: 107.3 million ac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us ≈1.7 million acres per ye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052: 192 million acr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≈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acre in 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st + freight to Baltimore, 200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1833480"/>
          <a:ext cx="8001000" cy="39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33480"/>
                    <a:ext cx="8001000" cy="39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762120" y="655308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5791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sed on Jim DeCosmo, “Future of the Texas Forest Industry,” 1/31/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ivate timberla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s profitable—more incentive to se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63: 368.9 million ac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050 (projected): 343 million ac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us 25.9 million acr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438280"/>
            <a:ext cx="22860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SDefaultUser</cp:lastModifiedBy>
  <dcterms:modified xsi:type="dcterms:W3CDTF">2004-06-18T16:15:14Z</dcterms:modified>
  <cp:revision>44</cp:revision>
  <dc:subject/>
  <dc:title>PowerPoint Presentation</dc:title>
</cp:coreProperties>
</file>